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5.gif" ContentType="image/gif"/>
  <Override PartName="/ppt/media/image13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gif" ContentType="image/gif"/>
  <Override PartName="/ppt/media/image22.png" ContentType="image/png"/>
  <Override PartName="/ppt/media/image1.jpeg" ContentType="image/jpeg"/>
  <Override PartName="/ppt/media/image21.gif" ContentType="image/gif"/>
  <Override PartName="/ppt/media/image2.gif" ContentType="image/gif"/>
  <Override PartName="/ppt/media/image23.png" ContentType="image/png"/>
  <Override PartName="/ppt/media/image20.gif" ContentType="image/gif"/>
  <Override PartName="/ppt/media/image26.png" ContentType="image/png"/>
  <Override PartName="/ppt/media/image17.jpeg" ContentType="image/jpeg"/>
  <Override PartName="/ppt/media/image15.gif" ContentType="image/gif"/>
  <Override PartName="/ppt/media/image19.png" ContentType="image/png"/>
  <Override PartName="/ppt/media/image16.gif" ContentType="image/gif"/>
  <Override PartName="/ppt/media/image1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ff"/>
                </a:solidFill>
                <a:latin typeface="Georgia"/>
              </a:rPr>
              <a:t>Click to move the slide</a:t>
            </a: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27A4-3D25-40CB-8758-480B2A7ED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6B84-2824-4249-A78A-229A4907D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C7AD-422F-4D74-9D22-B6322550F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49FD-E9D2-4037-A3A8-B20003248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47B1-9E74-42BF-8C49-8D94A8687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A939-5C8A-4944-9FD8-89C254045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CCE5-0915-480D-AD45-BD16E80B0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EC47-E76B-45A6-AF4C-CF4C59890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1677-355A-447C-A4DD-71B570869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C566-3143-47D0-83EB-A1697D06C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159B-CAE2-47EC-80AB-079852E91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1382-DE9C-4483-A20B-90F891D7A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196-4F78-406F-B8D4-8966C775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932-B8ED-48FF-8CB1-D214D79F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9B2-B449-479D-B562-91C05990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15E-1EE7-4EFD-819A-341BEBF1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9BF-5232-4CDF-8A53-02AFA96E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DB4-EA7A-40D7-9E26-F0E34A6A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8E5-8BD8-4B5E-8A27-109DD3D6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AEF-DBF2-4AD4-A69C-23854D6E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AF5-895A-4719-A36B-1F8CCE39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52B-EE7F-4B99-B6BC-7B2EF79C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091-3A06-4483-AD93-169D054E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736-D7D2-498C-8135-3E541A86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ff"/>
                </a:solidFill>
                <a:latin typeface="Georgia"/>
              </a:rPr>
              <a:t>Click to edit the title text format</a:t>
            </a: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Georgia"/>
              </a:rPr>
              <a:t>Click to edit the outline text format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lvl="1" marL="705600" indent="-271440">
              <a:spcBef>
                <a:spcPts val="799"/>
              </a:spcBef>
              <a:buSzPct val="1799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Georgia"/>
              </a:rPr>
              <a:t>Second Outline Level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lvl="2" marL="1085760" indent="-217080"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Georgia"/>
              </a:rPr>
              <a:t>Third Outline Level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lvl="3" marL="1519920" indent="-217080">
              <a:spcBef>
                <a:spcPts val="799"/>
              </a:spcBef>
              <a:buSzPct val="1285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Georgia"/>
              </a:rPr>
              <a:t>Fourth Outline Level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lvl="4" marL="1954440" indent="-217080">
              <a:spcBef>
                <a:spcPts val="799"/>
              </a:spcBef>
              <a:buSzPct val="1285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Georgia"/>
              </a:rPr>
              <a:t>Fifth Outline Level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lvl="5" marL="1954440" indent="-217080">
              <a:spcBef>
                <a:spcPts val="799"/>
              </a:spcBef>
              <a:buSzPct val="1285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Georgia"/>
              </a:rPr>
              <a:t>Sixth Outline Level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lvl="6" marL="1954440" indent="-217080">
              <a:spcBef>
                <a:spcPts val="799"/>
              </a:spcBef>
              <a:buSzPct val="1285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Georgia"/>
              </a:rPr>
              <a:t>Seventh Outline Level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6EB8-9CF9-4922-A624-DFD31EA9A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mshettle@crec.org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76320" y="8380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Segoe Script"/>
              </a:rPr>
              <a:t>DO NOW! </a:t>
            </a:r>
            <a:br>
              <a:rPr sz="6000"/>
            </a:b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Segoe Script"/>
              </a:rPr>
              <a:t>In Your Noteboo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209520" y="27766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Segoe Script"/>
              </a:rPr>
              <a:t>Make a List of </a:t>
            </a:r>
            <a:br>
              <a:rPr sz="6000"/>
            </a:br>
            <a:r>
              <a:rPr b="1" lang="en-US" sz="6000" spc="-1" strike="noStrike">
                <a:solidFill>
                  <a:srgbClr val="6600cc"/>
                </a:solidFill>
                <a:latin typeface="Segoe Script"/>
              </a:rPr>
              <a:t>10 Character Trai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Z:\newtek\_backgrounds_1.02\Art\power_point\17-\fishy_bubbles\bubble.png"/>
          <p:cNvPicPr/>
          <p:nvPr/>
        </p:nvPicPr>
        <p:blipFill>
          <a:blip r:embed="rId1"/>
          <a:stretch/>
        </p:blipFill>
        <p:spPr>
          <a:xfrm>
            <a:off x="-990720" y="-380880"/>
            <a:ext cx="7239240" cy="5790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 rot="20401200">
            <a:off x="85320" y="1642680"/>
            <a:ext cx="64771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How does understanding character traits help me understand the sto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Z:\newtek\_backgrounds_1.02\Art\power_point\17-\fishy_bubbles\bubble.png"/>
          <p:cNvPicPr/>
          <p:nvPr/>
        </p:nvPicPr>
        <p:blipFill>
          <a:blip r:embed="rId2"/>
          <a:stretch/>
        </p:blipFill>
        <p:spPr>
          <a:xfrm>
            <a:off x="2514600" y="3352680"/>
            <a:ext cx="3352680" cy="268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aunimages.animfactory.com/animations/animals/fish/little_fish_swimming_hg_clr.gif"/>
          <p:cNvPicPr/>
          <p:nvPr/>
        </p:nvPicPr>
        <p:blipFill>
          <a:blip r:embed="rId3"/>
          <a:stretch/>
        </p:blipFill>
        <p:spPr>
          <a:xfrm>
            <a:off x="6400800" y="4038480"/>
            <a:ext cx="2743200" cy="227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Z:\newtek\_backgrounds_1.02\Art\power_point\17-\fishy_bubbles\bubble.png"/>
          <p:cNvPicPr/>
          <p:nvPr/>
        </p:nvPicPr>
        <p:blipFill>
          <a:blip r:embed="rId4"/>
          <a:stretch/>
        </p:blipFill>
        <p:spPr>
          <a:xfrm>
            <a:off x="4876920" y="464832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4952880" cy="762120"/>
          </a:xfrm>
          <a:prstGeom prst="rect">
            <a:avLst/>
          </a:prstGeom>
          <a:solidFill>
            <a:srgbClr val="85ffe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haracter Traits:</a:t>
            </a:r>
            <a:endParaRPr b="1" i="1" lang="en-US" sz="3000" spc="-1" strike="noStrike">
              <a:solidFill>
                <a:srgbClr val="33ccff"/>
              </a:solidFill>
              <a:latin typeface="Georgia"/>
            </a:endParaRPr>
          </a:p>
        </p:txBody>
      </p:sp>
      <p:grpSp>
        <p:nvGrpSpPr>
          <p:cNvPr id="116" name="Rectangle 3"/>
          <p:cNvGrpSpPr/>
          <p:nvPr/>
        </p:nvGrpSpPr>
        <p:grpSpPr>
          <a:xfrm>
            <a:off x="596880" y="981000"/>
            <a:ext cx="8186760" cy="5743800"/>
            <a:chOff x="596880" y="981000"/>
            <a:chExt cx="8186760" cy="5743800"/>
          </a:xfrm>
        </p:grpSpPr>
        <p:pic>
          <p:nvPicPr>
            <p:cNvPr id="117" name="Rectangle 3" descr=""/>
            <p:cNvPicPr/>
            <p:nvPr/>
          </p:nvPicPr>
          <p:blipFill>
            <a:blip r:embed="rId1"/>
            <a:stretch/>
          </p:blipFill>
          <p:spPr>
            <a:xfrm>
              <a:off x="596880" y="981000"/>
              <a:ext cx="8186760" cy="57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09480" y="990720"/>
              <a:ext cx="815364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00280" indent="-45720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SzPct val="200000"/>
                <a:buFont typeface="Century Gothic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Help us understand why characters speak and act the way they do.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00280" indent="-45720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SzPct val="200000"/>
                <a:buFont typeface="Century Gothic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Help us understand what the characters think or why they have certain beliefs.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00280" indent="-45720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SzPct val="200000"/>
                <a:buFont typeface="Century Gothic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Help us understand a characters relationships with other characters.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00280" indent="-45720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SzPct val="200000"/>
                <a:buFont typeface="Century Gothic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Help us predict what characters might do next.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00280" indent="-45720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SzPct val="200000"/>
                <a:buFont typeface="Century Gothic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Help us make inferences and to draw </a:t>
              </a: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	</a:t>
              </a: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conclusions about events in the story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00280" indent="-4572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Picture 2" descr="http://aunimages.animfactory.com/animations/animals/fish/little_fish_swimming_hg_clr.gif"/>
          <p:cNvPicPr/>
          <p:nvPr/>
        </p:nvPicPr>
        <p:blipFill>
          <a:blip r:embed="rId2"/>
          <a:stretch/>
        </p:blipFill>
        <p:spPr>
          <a:xfrm>
            <a:off x="7391520" y="5257800"/>
            <a:ext cx="16002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Gothic"/>
              </a:rPr>
              <a:t>ON YOUR OWN</a:t>
            </a: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2057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The Lightning Thief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ad page 316 starting to page 317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2057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dentify Character Traits of Percy and Grov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ompare and Contrast Character Traits of Percy and Grover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2057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000000"/>
                </a:solidFill>
                <a:uFillTx/>
                <a:latin typeface="Century Gothic"/>
              </a:rPr>
              <a:t>HOMEWORK</a:t>
            </a:r>
            <a:endParaRPr b="1" i="1" lang="en-US" sz="55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SzPct val="20573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Read Chapter 20-21 of </a:t>
            </a:r>
            <a:r>
              <a:rPr b="1" i="1" lang="en-US" sz="4000" spc="-1" strike="noStrike">
                <a:solidFill>
                  <a:srgbClr val="000000"/>
                </a:solidFill>
                <a:latin typeface="Century Gothic"/>
              </a:rPr>
              <a:t>The Lightning Thief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for </a:t>
            </a:r>
            <a:r>
              <a:rPr b="1" lang="en-US" sz="4000" spc="-1" strike="noStrike" u="sng">
                <a:solidFill>
                  <a:srgbClr val="2d2db9"/>
                </a:solidFill>
                <a:uFillTx/>
                <a:latin typeface="Century Gothic"/>
              </a:rPr>
              <a:t>Wednesday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endParaRPr b="1" i="1" lang="en-US" sz="4000" spc="-1" strike="noStrike">
              <a:solidFill>
                <a:srgbClr val="33ccff"/>
              </a:solidFill>
              <a:latin typeface="Georgi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SzPct val="20573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Compare &amp; Contrast the Character Traits of 2 Characters you encounter</a:t>
            </a:r>
            <a:endParaRPr b="1" i="1" lang="en-US" sz="4000" spc="-1" strike="noStrike">
              <a:solidFill>
                <a:srgbClr val="33cc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52280" y="1074600"/>
            <a:ext cx="8839440" cy="466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Segoe Script"/>
              </a:rPr>
              <a:t>INDEPENDENT REA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http://www.brigittevantuijl.com/wp-content/uploads/2014/05/books.jpg"/>
          <p:cNvPicPr/>
          <p:nvPr/>
        </p:nvPicPr>
        <p:blipFill>
          <a:blip r:embed="rId1"/>
          <a:stretch/>
        </p:blipFill>
        <p:spPr>
          <a:xfrm>
            <a:off x="380880" y="2819520"/>
            <a:ext cx="2133720" cy="267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us.123rf.com/450wm/yeletkeshet/yeletkeshet1206/yeletkeshet120600001/14226215-two-kids-reading-books.jpg"/>
          <p:cNvPicPr/>
          <p:nvPr/>
        </p:nvPicPr>
        <p:blipFill>
          <a:blip r:embed="rId2"/>
          <a:stretch/>
        </p:blipFill>
        <p:spPr>
          <a:xfrm>
            <a:off x="5181480" y="3809880"/>
            <a:ext cx="36734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1980720"/>
            <a:ext cx="5867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Segoe Script"/>
              </a:rPr>
              <a:t>Character Traits</a:t>
            </a:r>
            <a:endParaRPr b="1" i="1" lang="en-US" sz="7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14600" y="3123720"/>
            <a:ext cx="586728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When you read a story watch the characters as if they were real people.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pic>
        <p:nvPicPr>
          <p:cNvPr id="55" name="Picture 4" descr="C:\Users\Tanya\Pictures\space_guy_zero_gravity_floating_md_clr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685800"/>
            <a:ext cx="952560" cy="134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Tanya\Pictures\fat_cat_francis_running_off_with_other_peoples_money_md_clr.gif"/>
          <p:cNvPicPr/>
          <p:nvPr/>
        </p:nvPicPr>
        <p:blipFill>
          <a:blip r:embed="rId3"/>
          <a:stretch/>
        </p:blipFill>
        <p:spPr>
          <a:xfrm>
            <a:off x="457200" y="266688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Users\Tanya\Pictures\grunge_sad_walk_md_clr.gif"/>
          <p:cNvPicPr/>
          <p:nvPr/>
        </p:nvPicPr>
        <p:blipFill>
          <a:blip r:embed="rId4"/>
          <a:stretch/>
        </p:blipFill>
        <p:spPr>
          <a:xfrm>
            <a:off x="1828800" y="4267080"/>
            <a:ext cx="771480" cy="144792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685800" y="1981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entu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57200" y="3962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152388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C:\Users\Tanya\Pictures\gingerbread_man_wolf_md_clr.gif"/>
          <p:cNvPicPr/>
          <p:nvPr/>
        </p:nvPicPr>
        <p:blipFill>
          <a:blip r:embed="rId5"/>
          <a:stretch/>
        </p:blipFill>
        <p:spPr>
          <a:xfrm>
            <a:off x="5486400" y="5105520"/>
            <a:ext cx="1143000" cy="1238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3884760" y="5495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66294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ar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Rectangle 2"/>
          <p:cNvGrpSpPr/>
          <p:nvPr/>
        </p:nvGrpSpPr>
        <p:grpSpPr>
          <a:xfrm>
            <a:off x="433440" y="208080"/>
            <a:ext cx="8240760" cy="1352520"/>
            <a:chOff x="433440" y="208080"/>
            <a:chExt cx="8240760" cy="1352520"/>
          </a:xfrm>
        </p:grpSpPr>
        <p:pic>
          <p:nvPicPr>
            <p:cNvPr id="65" name="Rectangle 2" descr=""/>
            <p:cNvPicPr/>
            <p:nvPr/>
          </p:nvPicPr>
          <p:blipFill>
            <a:blip r:embed="rId1"/>
            <a:stretch/>
          </p:blipFill>
          <p:spPr>
            <a:xfrm>
              <a:off x="433440" y="208080"/>
              <a:ext cx="82407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7200" y="228600"/>
              <a:ext cx="81532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Century Gothic"/>
                </a:rPr>
                <a:t>To identify character traits think of the following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391520" cy="4257720"/>
          </a:xfrm>
          <a:prstGeom prst="rect">
            <a:avLst/>
          </a:prstGeom>
          <a:gradFill rotWithShape="0">
            <a:gsLst>
              <a:gs pos="0">
                <a:srgbClr val="b9b9b9"/>
              </a:gs>
              <a:gs pos="100000">
                <a:srgbClr val="e9e9e9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0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entury Gothic"/>
                <a:ea typeface="Arial"/>
              </a:rPr>
              <a:t>What does the character say and do?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i="1" lang="en-US" sz="2500" spc="-1" strike="noStrike">
              <a:solidFill>
                <a:srgbClr val="33ccff"/>
              </a:solidFill>
              <a:latin typeface="Georgia"/>
            </a:endParaRPr>
          </a:p>
          <a:p>
            <a:pPr marL="857160" indent="-514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0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entury Gothic"/>
                <a:ea typeface="Arial"/>
              </a:rPr>
              <a:t>What does the character think and feel?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i="1" lang="en-US" sz="2500" spc="-1" strike="noStrike">
              <a:solidFill>
                <a:srgbClr val="33ccff"/>
              </a:solidFill>
              <a:latin typeface="Georgia"/>
            </a:endParaRPr>
          </a:p>
          <a:p>
            <a:pPr marL="857160" indent="-514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0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entury Gothic"/>
                <a:ea typeface="Arial"/>
              </a:rPr>
              <a:t>How does the character look?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i="1" lang="en-US" sz="2500" spc="-1" strike="noStrike">
              <a:solidFill>
                <a:srgbClr val="33ccff"/>
              </a:solidFill>
              <a:latin typeface="Georgia"/>
            </a:endParaRPr>
          </a:p>
          <a:p>
            <a:pPr marL="857160" indent="-514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0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entury Gothic"/>
                <a:ea typeface="Arial"/>
              </a:rPr>
              <a:t>What do the other characters think about the character?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i="1" lang="en-US" sz="2500" spc="-1" strike="noStrike">
              <a:solidFill>
                <a:srgbClr val="33ccff"/>
              </a:solidFill>
              <a:latin typeface="Georgia"/>
            </a:endParaRPr>
          </a:p>
          <a:p>
            <a:pPr marL="857160" indent="-514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0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entury Gothic"/>
                <a:ea typeface="Arial"/>
              </a:rPr>
              <a:t>How does the character make you feel?</a:t>
            </a:r>
            <a:endParaRPr b="1" i="1" lang="en-US" sz="2500" spc="-1" strike="noStrike">
              <a:solidFill>
                <a:srgbClr val="33ccff"/>
              </a:solidFill>
              <a:latin typeface="Georgia"/>
            </a:endParaRPr>
          </a:p>
          <a:p>
            <a:pPr marL="85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500" spc="-1" strike="noStrike">
              <a:solidFill>
                <a:srgbClr val="33ccff"/>
              </a:solidFill>
              <a:latin typeface="Georgia"/>
            </a:endParaRPr>
          </a:p>
        </p:txBody>
      </p:sp>
      <p:pic>
        <p:nvPicPr>
          <p:cNvPr id="68" name="Picture 2" descr="C:\Users\Tanya\Pictures\Shy.gif"/>
          <p:cNvPicPr/>
          <p:nvPr/>
        </p:nvPicPr>
        <p:blipFill>
          <a:blip r:embed="rId2"/>
          <a:stretch/>
        </p:blipFill>
        <p:spPr>
          <a:xfrm>
            <a:off x="7972560" y="5562720"/>
            <a:ext cx="1095120" cy="1143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8229600" y="6472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C:\Users\Tanya\Pictures\Graceful.gif"/>
          <p:cNvPicPr/>
          <p:nvPr/>
        </p:nvPicPr>
        <p:blipFill>
          <a:blip r:embed="rId3"/>
          <a:stretch/>
        </p:blipFill>
        <p:spPr>
          <a:xfrm>
            <a:off x="-304920" y="523872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0" y="639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c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685800"/>
          </a:xfrm>
          <a:prstGeom prst="rect">
            <a:avLst/>
          </a:prstGeom>
          <a:solidFill>
            <a:srgbClr val="aae2ca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entury Gothic"/>
              </a:rPr>
              <a:t>Use an organizer while you read.</a:t>
            </a:r>
            <a:endParaRPr b="1" i="1" lang="en-US" sz="3600" spc="-1" strike="noStrike">
              <a:solidFill>
                <a:srgbClr val="33ccff"/>
              </a:solidFill>
              <a:latin typeface="Georgia"/>
            </a:endParaRPr>
          </a:p>
        </p:txBody>
      </p:sp>
      <p:pic>
        <p:nvPicPr>
          <p:cNvPr id="73" name="Diagram 3" descr=""/>
          <p:cNvPicPr/>
          <p:nvPr/>
        </p:nvPicPr>
        <p:blipFill>
          <a:blip r:embed="rId1"/>
          <a:stretch/>
        </p:blipFill>
        <p:spPr>
          <a:xfrm>
            <a:off x="219240" y="1676520"/>
            <a:ext cx="8705520" cy="40654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1600200" y="1219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ame of Your Character: 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C:\Users\Tanya\Pictures\Criminal.gif"/>
          <p:cNvPicPr/>
          <p:nvPr/>
        </p:nvPicPr>
        <p:blipFill>
          <a:blip r:embed="rId2"/>
          <a:stretch/>
        </p:blipFill>
        <p:spPr>
          <a:xfrm>
            <a:off x="380880" y="5334120"/>
            <a:ext cx="619200" cy="109512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152280" y="6248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ea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C:\Users\Tanya\Pictures\intelligent.gif"/>
          <p:cNvPicPr/>
          <p:nvPr/>
        </p:nvPicPr>
        <p:blipFill>
          <a:blip r:embed="rId3"/>
          <a:stretch/>
        </p:blipFill>
        <p:spPr>
          <a:xfrm>
            <a:off x="7772400" y="5410080"/>
            <a:ext cx="1047600" cy="1047960"/>
          </a:xfrm>
          <a:prstGeom prst="rect">
            <a:avLst/>
          </a:prstGeom>
          <a:ln w="0">
            <a:noFill/>
          </a:ln>
        </p:spPr>
      </p:pic>
      <p:sp>
        <p:nvSpPr>
          <p:cNvPr id="78" name="TextBox 7"/>
          <p:cNvSpPr/>
          <p:nvPr/>
        </p:nvSpPr>
        <p:spPr>
          <a:xfrm>
            <a:off x="7543800" y="6248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lli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1600200" y="5562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a character trait 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1600200" y="60278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possible name another character trait 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solidFill>
            <a:srgbClr val="adadeb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entury Gothic"/>
              </a:rPr>
              <a:t>Read The Excerpt And Identify a Character Trait for Baboushka</a:t>
            </a:r>
            <a:endParaRPr b="1" i="1" lang="en-US" sz="3600" spc="-1" strike="noStrike">
              <a:solidFill>
                <a:srgbClr val="33ccff"/>
              </a:solidFill>
              <a:latin typeface="Georgia"/>
            </a:endParaRPr>
          </a:p>
        </p:txBody>
      </p:sp>
      <p:pic>
        <p:nvPicPr>
          <p:cNvPr id="82" name="Picture 2" descr="C:\Users\Tanya\Pictures\Dishes.gif"/>
          <p:cNvPicPr/>
          <p:nvPr/>
        </p:nvPicPr>
        <p:blipFill>
          <a:blip r:embed="rId1"/>
          <a:stretch/>
        </p:blipFill>
        <p:spPr>
          <a:xfrm>
            <a:off x="152280" y="5029200"/>
            <a:ext cx="1047960" cy="123840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228600" y="6172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C:\Users\Tanya\Pictures\Teacher reading.gif"/>
          <p:cNvPicPr/>
          <p:nvPr/>
        </p:nvPicPr>
        <p:blipFill>
          <a:blip r:embed="rId2"/>
          <a:stretch/>
        </p:blipFill>
        <p:spPr>
          <a:xfrm>
            <a:off x="7391520" y="5257800"/>
            <a:ext cx="1523880" cy="10476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7772400" y="6248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Baboushka sweeping"/>
          <p:cNvPicPr/>
          <p:nvPr/>
        </p:nvPicPr>
        <p:blipFill>
          <a:blip r:embed="rId3"/>
          <a:stretch/>
        </p:blipFill>
        <p:spPr>
          <a:xfrm>
            <a:off x="380880" y="2514600"/>
            <a:ext cx="2943360" cy="236232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3429000" y="2135160"/>
            <a:ext cx="5181480" cy="3020040"/>
          </a:xfrm>
          <a:prstGeom prst="rect">
            <a:avLst/>
          </a:prstGeom>
          <a:solidFill>
            <a:srgbClr val="adade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ce upon a time, in a small village in Russia there lived a woman called Baboushka. Baboushka was very house-proud. She had the tidiest house in the village and the most beautiful garden. She was always cooking and cleaning, scrubbing and sweeping, polishing and pain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537000" y="5276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ge 1 – Go To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3962520" y="5664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: BBC CBeebies S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All the villagers were out in the square talking about a bright new star that had just appeared in the sky"/>
          <p:cNvPicPr/>
          <p:nvPr/>
        </p:nvPicPr>
        <p:blipFill>
          <a:blip r:embed="rId1"/>
          <a:stretch/>
        </p:blipFill>
        <p:spPr>
          <a:xfrm>
            <a:off x="3086280" y="609480"/>
            <a:ext cx="2743200" cy="1554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228600" y="2514600"/>
            <a:ext cx="8458200" cy="1922760"/>
          </a:xfrm>
          <a:prstGeom prst="rect">
            <a:avLst/>
          </a:prstGeom>
          <a:solidFill>
            <a:srgbClr val="adade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he villagers were out in the square talking about a bright new star that had just appeared in the sky. Everyone was very excited about the star because it brought great new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Baboushka didn't even notice the dazzling star - she was far too busy cleaning her ho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133720" y="51814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ets Use An Organi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76200"/>
            <a:ext cx="59436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ame of Your Character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boush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Diagram 2" descr=""/>
          <p:cNvPicPr/>
          <p:nvPr/>
        </p:nvPicPr>
        <p:blipFill>
          <a:blip r:embed="rId1"/>
          <a:stretch/>
        </p:blipFill>
        <p:spPr>
          <a:xfrm>
            <a:off x="219240" y="841320"/>
            <a:ext cx="8705520" cy="40593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304920" y="16765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he was always cleaning.  She doesn’t notice the dazzling st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352680" y="1981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he is very proud of her ho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553080" y="1828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he looks very clean and ne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057400" y="3733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he had the tidiest house and most beautiful ga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4800600" y="37339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 like 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he seems like a nice lad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1676520" y="4952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a character trait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boushk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1676520" y="5715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possible name another character trait 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236232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1981080" y="6019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 wo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5715000" cy="914400"/>
          </a:xfrm>
          <a:prstGeom prst="rect">
            <a:avLst/>
          </a:prstGeom>
          <a:solidFill>
            <a:srgbClr val="85ffe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Did You Notice?</a:t>
            </a: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Character traits are </a:t>
            </a:r>
            <a:r>
              <a:rPr b="1" i="1" lang="en-US" sz="2800" spc="-1" strike="noStrike">
                <a:solidFill>
                  <a:srgbClr val="2d2db9"/>
                </a:solidFill>
                <a:latin typeface="Century Gothic"/>
              </a:rPr>
              <a:t>descriptive </a:t>
            </a:r>
            <a:r>
              <a:rPr b="1" i="1" lang="en-US" sz="2800" spc="-1" strike="noStrike">
                <a:solidFill>
                  <a:srgbClr val="2d2db9"/>
                </a:solidFill>
                <a:latin typeface="Century Gothic"/>
              </a:rPr>
              <a:t>	</a:t>
            </a:r>
            <a:r>
              <a:rPr b="1" i="1" lang="en-US" sz="2800" spc="-1" strike="noStrike">
                <a:solidFill>
                  <a:srgbClr val="2d2db9"/>
                </a:solidFill>
                <a:latin typeface="Century Gothic"/>
              </a:rPr>
              <a:t>adjectives.</a:t>
            </a:r>
            <a:br>
              <a:rPr sz="2800"/>
            </a:br>
            <a:r>
              <a:rPr b="1" i="1" lang="en-US" sz="2800" spc="-1" strike="noStrike">
                <a:solidFill>
                  <a:srgbClr val="2d2db9"/>
                </a:solidFill>
                <a:latin typeface="Century Gothic"/>
              </a:rPr>
              <a:t> </a:t>
            </a:r>
            <a:endParaRPr b="1" i="1" lang="en-US" sz="2800" spc="-1" strike="noStrike">
              <a:solidFill>
                <a:srgbClr val="33ccff"/>
              </a:solidFill>
              <a:latin typeface="Georgia"/>
            </a:endParaRPr>
          </a:p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We can describe characters using character traits that tells us the </a:t>
            </a:r>
            <a:r>
              <a:rPr b="1" i="1" lang="en-US" sz="2800" spc="-1" strike="noStrike">
                <a:solidFill>
                  <a:srgbClr val="00cc99"/>
                </a:solidFill>
                <a:latin typeface="Century Gothic"/>
              </a:rPr>
              <a:t>specific qualities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 of the character.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i="1" lang="en-US" sz="2800" spc="-1" strike="noStrike">
              <a:solidFill>
                <a:srgbClr val="33ccff"/>
              </a:solidFill>
              <a:latin typeface="Georgia"/>
            </a:endParaRPr>
          </a:p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An author may </a:t>
            </a:r>
            <a:r>
              <a:rPr b="1" i="1" lang="en-US" sz="2800" spc="-1" strike="noStrike" u="sng">
                <a:solidFill>
                  <a:srgbClr val="0083b2"/>
                </a:solidFill>
                <a:uFillTx/>
                <a:latin typeface="Century Gothic"/>
              </a:rPr>
              <a:t>tell us 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the character 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traits </a:t>
            </a:r>
            <a:r>
              <a:rPr b="1" i="1" lang="en-US" sz="2800" spc="-1" strike="noStrike" u="sng">
                <a:solidFill>
                  <a:srgbClr val="0083b2"/>
                </a:solidFill>
                <a:uFillTx/>
                <a:latin typeface="Century Gothic"/>
              </a:rPr>
              <a:t>directly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, but more often the 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author will </a:t>
            </a:r>
            <a:r>
              <a:rPr b="1" i="1" lang="en-US" sz="2800" spc="-1" strike="noStrike" u="sng">
                <a:solidFill>
                  <a:srgbClr val="0083b2"/>
                </a:solidFill>
                <a:uFillTx/>
                <a:latin typeface="Century Gothic"/>
              </a:rPr>
              <a:t>show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 us these </a:t>
            </a:r>
            <a:r>
              <a:rPr b="1" i="1" lang="en-US" sz="2800" spc="-1" strike="noStrike" u="sng">
                <a:solidFill>
                  <a:srgbClr val="0083b2"/>
                </a:solidFill>
                <a:uFillTx/>
                <a:latin typeface="Century Gothic"/>
              </a:rPr>
              <a:t>traits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 by 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what the character does.</a:t>
            </a:r>
            <a:endParaRPr b="1" i="1" lang="en-US" sz="28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228600" y="6172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7467480" y="6248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C:\Users\Tanya\Pictures\Evil.gif"/>
          <p:cNvPicPr/>
          <p:nvPr/>
        </p:nvPicPr>
        <p:blipFill>
          <a:blip r:embed="rId1"/>
          <a:stretch/>
        </p:blipFill>
        <p:spPr>
          <a:xfrm>
            <a:off x="152280" y="48769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Tanya\Pictures\policeman_turn_look_md_clr.gif"/>
          <p:cNvPicPr/>
          <p:nvPr/>
        </p:nvPicPr>
        <p:blipFill>
          <a:blip r:embed="rId2"/>
          <a:stretch/>
        </p:blipFill>
        <p:spPr>
          <a:xfrm>
            <a:off x="7924680" y="4876920"/>
            <a:ext cx="9525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03:45:06Z</dcterms:created>
  <dc:creator>Tanya</dc:creator>
  <dc:description/>
  <dc:language>en-US</dc:language>
  <cp:lastModifiedBy>Shettle, Meghan</cp:lastModifiedBy>
  <dcterms:modified xsi:type="dcterms:W3CDTF">2014-10-20T01:23:25Z</dcterms:modified>
  <cp:revision>82</cp:revision>
  <dc:subject/>
  <dc:title>Character Traits</dc:title>
</cp:coreProperties>
</file>